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4DC3-6BA8-4AC9-84B6-619DE3E1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122D-0DF6-4B5D-9DD4-EA0BCCC6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4F1A4-A508-4EC9-8011-40807FF2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B22C6-8703-43F1-8EAC-9DF3D68B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3015D-EB04-4F7B-BAA2-A7905402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80AA9-535B-4855-87A2-110AA607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9891C-F2B6-4D50-9FA2-07CA3D68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8123A-EAB7-4E43-A621-44464044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F10D3-9DFF-4B8B-9115-5BF86F1C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22EC5-D8A5-48E2-BD26-F2075734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75745-4A6A-480F-8EC9-3DBB6DFA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E59B1-6180-439A-B87F-FD17E735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1AD5-99FC-4F16-9871-BCF71C24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B4F2D-8385-471F-A8E1-7CAA0C6C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EF9A4-691B-4ADA-9F38-DFF8B0D0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55208-FBA7-41E3-BA1C-B4A4D5B0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183B3-AE4E-4D7B-8C4D-9424ECCA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94ED8-0A7E-47F6-BC76-8F8EE312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C367D-67C2-4ABA-838C-98DEC692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CB0F4-9034-4FD9-9AEC-3ABAD8B1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83CB9-B392-4DBE-B2FE-9457999B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A21B8-935F-495C-A424-06EBC771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23D8D-25C9-4BE7-99BD-9A7A7E35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B970-62EE-4794-847E-0E4D6B9B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BA58D-AD99-4E5E-AB66-B0AF02F1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0F183-09BF-4D23-AAB2-1DE90995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9844E-52C2-482A-BC2D-3DFBD8D4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6B5BB-AF86-4325-981A-9CFD07EE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8853C-A638-4C6F-8A61-926F236D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F40F3-4E91-4153-9EF2-15E6C9E7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7DC92-CB82-4567-AAAE-9DF9571E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0C0CF-E9C5-4E68-9796-21EBEF34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4BA25-C02C-4995-817D-B4CF3331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709D6-F026-4A9B-B09A-8F68F96A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8936-B3CE-45A7-94C6-E94F8AA4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386B7-298A-4235-B834-CA1804D2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6CC8E-4BC8-482A-99D0-F3C2A76C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BB161-4114-4EA9-AB1C-196A30ED2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5B5F6-090A-440B-9456-EF952E07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51962-FA42-4407-ABBB-320CF823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E5AA0-1AA1-49B2-94F7-C1A46EF5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D4E70-9790-4AE5-B027-52E9CEAC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25509-18E7-4A3A-97EC-FF60023B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C3671-D9E1-4AA3-991E-E463D2E8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5C66C-F823-411D-A047-93CF82E3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BE5E-A7C3-4A78-B19F-0605CA1E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97251-E687-4DBA-BB1B-AF9E62E6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A3757-FEB2-4585-9E27-0D21CDAA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B7899-4C34-49F0-90A6-5D7D3B92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3E6FC-FDD9-4207-887C-3FC3B8E6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875BC-269C-4832-BF23-F2B15240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261DF9-63CE-4D9C-84A5-58312813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F1A901-153D-441B-A5E7-EAFB79E0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970F0A-1A03-403D-ADDE-16A05D23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8D4C7D-F70C-4143-93BE-7629875D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F1FF61-6BFE-4665-8B21-BAE3AA01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22BC-A5EC-49C0-9859-2A19F554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4EEA96-8412-49CB-AC2B-70210AD5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5821D8-567E-4A0D-A3BE-9759B139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A42CFC-5E10-4687-A215-F6CFFEA1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5BEDD-6656-443A-9082-F8803D50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C64331-A104-4465-A25B-CE1B66B2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FAB0A4-B502-449E-8A99-3086420E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C7CB74-5061-4566-ADEF-1067D217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1AE145-3D0D-4D99-94CD-46D6C94B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737C3B-21EC-4C9D-9359-AC658D17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B54F95-5067-46FA-8121-540BC159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01BD-2F99-4BBC-83C9-56FA3BA0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F0F775-79A8-439B-BDF3-303DA59E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B8A426-56A7-417F-BD6A-0DC4E019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F71912-C214-4A0C-A7AE-BFC71E72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D73A5E-8FBE-4631-934A-C4737B29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AD3AEA-AF8E-4B88-B02C-E343A629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DA7890-2B0F-4376-8828-F7D1C492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270BD8-346F-4933-9DC7-AFCE741C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DA7C55-EB98-4D46-909B-A14F4F2F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A46EC3-72DF-4119-A69A-F86CDC89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8731EE-EAAC-4CF6-815C-0D366A3A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B01E-B4B8-4DC0-BC8F-570B4CFB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C6B7B6-274B-4D9E-BF87-6E325528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FFC724-A811-4986-B766-B0FC9812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8C2CF2-C6AB-4D81-833F-6EC264D2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0421A4-315D-4200-8A3F-49772E38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F38AA1-C58D-43DE-979A-D3563A9C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C058E9-30FD-4488-8DCC-43904453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5BB346-E8DA-4892-9A54-DB2EF8D9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C3D614-23A1-42E8-A1C9-07636D4B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BB95A2-EE7A-4ADA-83F7-CCDBB3F4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F060F0-F620-4BE6-89A7-7079D39C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93CF-7FA8-48CF-B72E-08E8F659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ABEB7D-EC8A-4880-B6A7-7AD54BBD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F1495A-06A5-42FB-A499-44184D7C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11A815-7FDD-49CF-9985-24FD45FE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C63557-6237-4E15-B34E-3A4C9C6F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FF350B-0C38-4D23-A5AE-11E048DF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B1A6C0-6BDA-4BDF-A235-5AFA42A4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93C011-FD6F-48C8-BB3E-FB076C42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1899A3-C4F0-4282-967C-DC8F5D23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F0C541-588B-4C2F-A534-A6B36494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5AAC15-E540-49AA-9173-352F8F13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D620-6873-49A4-B39B-31A4D60E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A881A7-B374-415C-8D12-42843525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B64D92-125B-4167-AFAB-C5F57658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537275-FBF7-4A1D-893D-E786C64B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B46BC9-FF50-4C91-A7A3-997F7991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D3F9DC-5ECC-4063-AEE3-8DA84F7C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87A745-2157-4B2E-B7D4-747BB569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50BBED-D657-4ACC-887B-FDA10238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BE094B-D748-4B3B-B4E2-727076A7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03D6DB-EE60-48C1-9056-06BFF78C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4A9ACB-76BF-49B2-B111-7144A960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06CC-AC4A-489E-9BBB-D0536AF3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4B21-793C-46E6-AED6-D3BE44EA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1339DD-ABCF-4ADB-A0BB-743DD18A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0CAA76-040A-44D4-9818-EE7D95CF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06A47C-5F8E-4E52-98EE-31B94211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E5144A-6177-4246-8FCC-C0F74D2C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EF3058-6BAB-4BF3-9598-50408AC4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5207DA-E85D-4A62-9A2E-E83EC26E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788AFC-F651-4562-8429-8545A0F1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CAE807-D3B4-4B35-8915-1F4B7B0E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946E09-BA1A-4843-914B-150873AE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6B8BA3-4ABA-4134-BCAA-CF138048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16CE-7A26-4F75-89C2-99C85C10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746134-7CDA-4528-95D2-133397D1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FAD068-A586-42BA-A6BC-915441DD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69C084-D981-4077-B2DF-5B9608D5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F4CFD3-57D7-4DEA-98CB-48A57055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3E5A03-51FD-4F47-8671-3723DC58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CF5AEA-0ADF-4069-B5AA-FAB114AA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52BFA5-ED5C-41DF-81F8-9512A863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1E90CE-61EF-4D62-8442-EEECFA86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A47CD0-8718-4A99-B4C5-2EF8D9E1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925D09-12B8-40A9-84FD-7C0F9EA0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F9EE-CF2E-4EA1-9A10-9A9B786E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2A701B-E9EC-469D-9A78-25C19981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268CA3-3D59-458F-8041-C620B03A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261781-36CF-4B35-9B09-254AD846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428E37-84DE-4480-B01B-3468F738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6973F4-104A-4215-8094-5D79B316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E7BC1A-B8CE-4E98-BC73-40B33425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D0A319-8F80-4140-A357-3F597B89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2C9171-8328-4510-9809-98DD0872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C73CBE-DAD4-4CDC-8032-F04B53BF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5C1BE2-4DE8-455D-97B5-68C30BFB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3ED2-AF0A-4AC4-A849-847BA293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DED00A-C2E7-4A54-9EEE-263638C7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AC3F7D-5631-41E5-94E9-98CB116B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26FD92-5CA9-46DF-B04F-372A79B4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B31FE1-E53C-4D9A-9671-206CEF53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3DCA09-0C8A-426A-B897-7123A1EA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6BC060-9FF3-471E-AE54-BA0F6495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7ABE32-FBFE-4198-9248-B375A804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DAF258-BAA4-4D7E-8051-88593706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64A383-A983-49EC-AE4B-88E65761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03E19E-23CA-4ACA-BFF7-BACFF88F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5232-168C-4CE2-81D9-3BAF1018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84B671-9AA8-474C-8D0C-C14A4611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DBFC4B-0A7D-481B-9BA8-8AB9AAB5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4A623D-5766-485D-B6A8-93F0D6BF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71CAE0-9288-4203-B6BE-5B5BD65F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C606E5-EE69-4227-9EAE-165719BA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9C29DD-95AC-4D36-A84F-970BC9C0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91A8D3-2722-4E68-8300-B9BA638E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244F14-E07A-4C29-9BD2-6AF670D0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50C8DA-84B4-479D-A359-DCF3C9BD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6B70E0-E12E-4ED7-8106-99E9C87A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9877A-656E-4F88-877F-A9A8318F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C16CF8-5C7F-4A96-926F-1C8BB478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8849CF-5A3A-4D31-9681-AF563AE1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3464FD-2E53-4C12-8E62-0015C0AD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4FB577-6E82-4EC6-9945-FC0AD265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EB6AE2-9B29-4DDF-8A17-49F5D5A2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6F21B7-F709-4D07-9603-EC09EFF2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254E19-3216-4160-9255-57449AC9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D36497-7F2E-4332-B936-00840465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E971F0-995D-482F-93F6-ADFA411A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CB4329-1CFE-4291-A1F5-D7E70463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2DE0C-A3DB-4A22-A054-BC30D40F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318CF9-ECDB-400D-BC7A-2CDD046B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3EF52E-0ADC-4185-B1DC-F1ACE8F5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358868-ECDE-4877-BC9F-9C7A45BD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7E2998-EC9E-487A-8DA3-7963DB86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AECEF8-4C31-47E7-B41B-978020B8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502CDA-DFDF-4DD0-AC3F-96954666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EA55B4-CBAD-404B-8740-35D78F5C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73688E-6A89-42DA-8B9A-4661B44C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C3A735-B608-4EF7-8B38-98CB3401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0CA4BC-812E-4403-BD3E-2A7F1D6D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63CD5-37B9-4263-AAF9-2E1B1CD3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AB5581-5753-431D-A9C4-DC072BFB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2944E4-5944-4D98-88A0-68AC0C5B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F2A205-6631-43BB-B05E-7DDC003C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5B804B-C026-4D81-993D-A603BE17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CABD4C-FE1D-47B1-A2D2-757E7843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8BC91E-043E-4C7B-81D1-11884899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65A471-6D7E-4D3F-8A71-41639D89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9644A-9CB2-418E-8839-6821EDF1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896EA-A155-4128-BE29-B1258BB2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144A-74F0-4566-A692-0F4A608A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F03F6-702D-44A4-83D3-202A20D8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18C89-5E16-46DF-8E29-F94622C7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C46EF-4634-47B0-9EFF-1914BCC5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B48B4-7A28-4C38-959E-3BDBEEF6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4342A-4275-48E2-96BC-3738AB09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15134-B4C4-44A6-8467-0D0C0461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D7F68-5F03-440C-ADAE-CE2AF99E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B5D38-7DCF-4B0F-8BFC-CC8E72DF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5C1DC-D9D3-45A3-A8CF-F96C04DF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B154E-918E-4A84-B3AB-94079197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FC46-07CA-4E71-9C18-2AEE6DDB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8946E-767A-4F64-9988-3D81D000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8A652-2C63-49FD-97B0-502E36B0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C1678-5295-4C7D-B62C-617D872B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E665A-B1F2-415F-97AA-E3D30D46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D6B0D-106E-4D30-B344-0586C370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17C0A-C92A-4C49-AEEA-30897439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F1DB8-0975-456F-AE0D-1FBEE39F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7BFC3-C60B-4F97-83B6-B9C6C12C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2F317-0830-4456-8EA6-4E832589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46E4E-5E70-4F39-9E95-401DEC50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68DA-8149-4BC2-B4D6-4499BAA1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A701B-33C9-4234-8EB8-DED66977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CBCAA-1D12-49EA-AF8D-25D4B57D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369AB-8C3B-426A-9CE3-BFE67718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9D45A-976E-48B8-AE95-735A8EFF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41E38-4FE2-4F9F-B2B1-92248DEA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DE893-605C-44B1-B70A-C88E31C5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4C5D3-25F7-48A1-A67F-6DC8E747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EAE53-C256-408F-82FE-4D6C9446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0E89D-8445-4824-BB3E-765772DC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EABDA-49F0-42A9-B437-A67D8F12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F6D2-7E45-4953-935B-1D1C2F26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02A98-AE81-46F4-B8AB-B2779D1F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21DFD-3457-4D3D-8D0A-F1E43F0F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7718D-3223-4457-B08B-BCE0A077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17327-B3F5-4462-A40C-959B1B74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B3293-F193-40A2-AAED-82C805EC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BC63A-2ABA-4B5F-8CEE-7208439B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035C3-ADDB-4DD1-AB39-C62E0253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A9B1E-5C62-4E43-B676-DC547522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E0471-562F-4F41-8F16-79011A9D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12080-6F0D-4FD5-87A3-E152ECAB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16BE-A2F2-4448-B274-A7A5423F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C017D-AFA3-4410-BA3B-AB911A44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D9C0B-3C7B-47C9-8954-792D36FA4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5DFCF-6321-4117-837F-53C96315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FAEDA-4905-4B54-A3C2-633E7F22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715FD-3AC6-4033-92B6-8BE28EFB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87922-40AC-4A8F-A156-730CE7B8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152D6-B477-4D73-986C-62D40D80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3B1F1-213E-424C-8C7F-C6FF18B1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3A84D-BA33-4F7C-9C56-C07BD4F1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C082C-FCF3-4813-85A5-3B7738B3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94AC-4D09-470A-849C-7DC54910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DE0BF-21EF-49D7-B1B8-81996FD3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FB1D4-6A8B-4ACA-898B-003FDF4A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7EB0E-F931-4258-A8B6-2BFBE7D9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5C942-7649-4449-A262-0F3C6CCD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539E9-0000-4C3D-AF42-6927C898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A7EDC-84C4-4CA2-81FD-3F44894E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5DA0D-DB90-4519-BE00-3DEB26E3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84589-8CFE-47E7-8311-F2397A5C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07375-CDB7-4836-8101-0D4DB363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025F8-1DFD-49AF-BB5F-91AD84F6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113F-C0DC-48B4-A8B5-1D1A2EF5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50DCA-0D9F-48D5-B1C2-FDC1039D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0B013-F4E1-46F5-B817-2F49B97B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20918-2E34-4DCF-946D-3F62CD2D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2DE80-293D-425E-8BCC-7645ADEE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E32BC-0BFA-4BB6-B99F-2E0AA76D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C83D1-A170-4B77-9883-84129C8B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B36E0-2615-4294-8A8C-D2A3CE5C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68C7D-D17A-4CE4-A9C6-C1736187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D2DE6-27C2-4C36-99E9-052B21B6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C205B-9F23-4C2E-A5B4-6AFDC0AD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1191-4945-45FB-A12B-5E702DC3CF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ECAC-3D7C-4916-B230-5E6BEE0C98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36B7-31AA-43FD-A0AA-72D69E5A28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9057-C578-435C-A2D3-BBECABE14F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BCB3-50EE-4192-8F52-67EDA75B01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70CE-C36F-41B1-835A-078F974ED2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D3E0-DE7D-4897-932D-A14F7026D1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5F39-8653-4DC3-917C-56460571ED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B319-73E6-4779-916C-F37F47B46B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0401-4FC8-41A5-897A-0EFB895D03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C543-D6CB-437C-8D28-F4ED7C87B1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2015-B2AA-49E1-8192-3BCCC83FA3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0D7E-D95A-4BFE-B9FB-A08D04ADC3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69A0-1564-4F6C-8E36-45DFDA4984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95FC-C25A-4027-93B7-91D988018C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C040-1379-46A7-B099-C77D420F9D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3821-3D8A-4F1D-9715-C9EA835AAA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AA45-1FB2-44A9-BCDE-591755029A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3F5D-569D-4034-868D-D23CBBA6A3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5F54-0F25-481F-A325-8D529F2EB6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3CF5-6C83-4C5C-9375-9AC116DC93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0674-4235-4C24-BF81-2F52CC28A02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229F-FF78-451E-AAC3-2DA08A357E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C681-28E0-40D9-8506-A44A438952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994E-0F84-4F04-AFA3-8243101731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7601-4672-4EB5-837A-99352239D5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FDAF-2F19-40FF-8803-B39861FC7B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1849-774E-4C34-A8C0-BDD3CBAFBB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0F02-AB00-4D8A-A3C3-73736D886B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2E80-9D6B-476F-96DC-64D3BF34A8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81C4-FDC5-43CF-BE32-A4BEFD8D16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D917-E794-4E94-A829-FD868BB46B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ADB5-2E14-4339-989E-6789A3747F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5B40-753C-4CDF-903B-7A6673992B8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8381-545E-4EF7-9055-70A594E312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A550-A548-40D1-B6B0-7E7C3680E3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33DE-1D34-40B1-90CE-C77A845078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1078-349C-41B2-A1FD-5DA90A4A83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562F-EA32-4EEA-829C-8E9DA52377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69C5-4D94-430C-8A5B-5DAAED5352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FB3A-DBF9-41ED-A299-E0DBD957B2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DCFD-CB17-4EA8-A19A-64D8C0B058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776680" y="3062160"/>
            <a:ext cx="359064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00080" y="976320"/>
            <a:ext cx="8943840" cy="4905360"/>
          </a:xfrm>
          <a:prstGeom prst="rect">
            <a:avLst/>
          </a:prstGeom>
          <a:ln w="0">
            <a:noFill/>
          </a:ln>
        </p:spPr>
      </p:pic>
      <p:pic>
        <p:nvPicPr>
          <p:cNvPr id="1007" name="图片 6146" descr=""/>
          <p:cNvPicPr/>
          <p:nvPr/>
        </p:nvPicPr>
        <p:blipFill>
          <a:blip r:embed="rId2"/>
          <a:stretch/>
        </p:blipFill>
        <p:spPr>
          <a:xfrm>
            <a:off x="4140360" y="2778120"/>
            <a:ext cx="4679640" cy="18748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3851280" y="5500800"/>
            <a:ext cx="289080" cy="31896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4260960" y="5500800"/>
            <a:ext cx="288720" cy="31896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4643280" y="5500800"/>
            <a:ext cx="289080" cy="3189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5052960" y="5500800"/>
            <a:ext cx="289080" cy="3189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5443560" y="5500800"/>
            <a:ext cx="289080" cy="3189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5853240" y="5500800"/>
            <a:ext cx="288720" cy="3189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9"/>
          <a:stretch/>
        </p:blipFill>
        <p:spPr>
          <a:xfrm>
            <a:off x="6267600" y="5508720"/>
            <a:ext cx="288720" cy="31896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10"/>
          <a:stretch/>
        </p:blipFill>
        <p:spPr>
          <a:xfrm>
            <a:off x="6676920" y="5508720"/>
            <a:ext cx="289080" cy="318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11"/>
          <a:stretch/>
        </p:blipFill>
        <p:spPr>
          <a:xfrm>
            <a:off x="7067520" y="5508720"/>
            <a:ext cx="289080" cy="3189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12"/>
          <a:stretch/>
        </p:blipFill>
        <p:spPr>
          <a:xfrm>
            <a:off x="7477200" y="5508720"/>
            <a:ext cx="2887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171360" y="1154160"/>
            <a:ext cx="8801280" cy="3438360"/>
          </a:xfrm>
          <a:prstGeom prst="rect">
            <a:avLst/>
          </a:prstGeom>
          <a:ln w="0">
            <a:noFill/>
          </a:ln>
        </p:spPr>
      </p:pic>
      <p:pic>
        <p:nvPicPr>
          <p:cNvPr id="1019" name="图片 2" descr=""/>
          <p:cNvPicPr/>
          <p:nvPr/>
        </p:nvPicPr>
        <p:blipFill>
          <a:blip r:embed="rId2"/>
          <a:stretch/>
        </p:blipFill>
        <p:spPr>
          <a:xfrm>
            <a:off x="536400" y="4592520"/>
            <a:ext cx="6944040" cy="112392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3780000" y="2173320"/>
            <a:ext cx="720720" cy="31896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4"/>
          <a:stretch/>
        </p:blipFill>
        <p:spPr>
          <a:xfrm>
            <a:off x="3419640" y="2540160"/>
            <a:ext cx="1223640" cy="3189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5"/>
          <a:stretch/>
        </p:blipFill>
        <p:spPr>
          <a:xfrm>
            <a:off x="3492360" y="2890800"/>
            <a:ext cx="720720" cy="31896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6"/>
          <a:stretch/>
        </p:blipFill>
        <p:spPr>
          <a:xfrm>
            <a:off x="900000" y="4076640"/>
            <a:ext cx="4176720" cy="3193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7"/>
          <a:stretch/>
        </p:blipFill>
        <p:spPr>
          <a:xfrm>
            <a:off x="826920" y="5313240"/>
            <a:ext cx="41767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98280" y="1825560"/>
            <a:ext cx="7277400" cy="3019320"/>
          </a:xfrm>
          <a:prstGeom prst="rect">
            <a:avLst/>
          </a:prstGeom>
          <a:ln w="0">
            <a:noFill/>
          </a:ln>
        </p:spPr>
      </p:pic>
      <p:pic>
        <p:nvPicPr>
          <p:cNvPr id="1026" name="图片 2" descr=""/>
          <p:cNvPicPr/>
          <p:nvPr/>
        </p:nvPicPr>
        <p:blipFill>
          <a:blip r:embed="rId2"/>
          <a:stretch/>
        </p:blipFill>
        <p:spPr>
          <a:xfrm>
            <a:off x="7432560" y="1598760"/>
            <a:ext cx="1638360" cy="39337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3635280" y="2678040"/>
            <a:ext cx="720720" cy="3193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3708360" y="2997360"/>
            <a:ext cx="720720" cy="3189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3708360" y="3357720"/>
            <a:ext cx="720720" cy="3189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3708360" y="3716280"/>
            <a:ext cx="720720" cy="3193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7"/>
          <a:stretch/>
        </p:blipFill>
        <p:spPr>
          <a:xfrm>
            <a:off x="3708360" y="4076640"/>
            <a:ext cx="720720" cy="3193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8"/>
          <a:stretch/>
        </p:blipFill>
        <p:spPr>
          <a:xfrm>
            <a:off x="1908000" y="4437000"/>
            <a:ext cx="432000" cy="3193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9"/>
          <a:stretch/>
        </p:blipFill>
        <p:spPr>
          <a:xfrm>
            <a:off x="8317080" y="2421000"/>
            <a:ext cx="431640" cy="3189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10"/>
          <a:stretch/>
        </p:blipFill>
        <p:spPr>
          <a:xfrm>
            <a:off x="8317080" y="2852640"/>
            <a:ext cx="431640" cy="3193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11"/>
          <a:stretch/>
        </p:blipFill>
        <p:spPr>
          <a:xfrm>
            <a:off x="8317080" y="3213000"/>
            <a:ext cx="431640" cy="3193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2"/>
          <a:stretch/>
        </p:blipFill>
        <p:spPr>
          <a:xfrm>
            <a:off x="8317080" y="3573360"/>
            <a:ext cx="431640" cy="3193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3"/>
          <a:stretch/>
        </p:blipFill>
        <p:spPr>
          <a:xfrm>
            <a:off x="8317080" y="3933720"/>
            <a:ext cx="431640" cy="3193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4"/>
          <a:stretch/>
        </p:blipFill>
        <p:spPr>
          <a:xfrm>
            <a:off x="8317080" y="4365720"/>
            <a:ext cx="431640" cy="3189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15"/>
          <a:stretch/>
        </p:blipFill>
        <p:spPr>
          <a:xfrm>
            <a:off x="8294760" y="4724280"/>
            <a:ext cx="431640" cy="3193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16"/>
          <a:stretch/>
        </p:blipFill>
        <p:spPr>
          <a:xfrm>
            <a:off x="8317080" y="5157720"/>
            <a:ext cx="43164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10:25:2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